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C60-A2C6-4835-BB0E-E29F962C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78E-AB3E-43A6-A3D0-DD905C61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018-3686-4C77-932F-3A22DE86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8B1-0368-448A-BBF8-2A1CAE98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6F2-7ACE-4C2E-BE45-6602874E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482-D8DB-4B6C-89E5-73F14A46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238-2E2D-4692-81D2-97DB5C2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D0D-58BB-4971-873A-6CE9F49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A6C-E6B3-4DA4-B78A-61D5903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4E1-6D6E-4656-B541-F7C2EDAD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53D-0C12-4ABD-8585-F433EFC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293-5484-47A0-8A6C-CD31524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B759-E759-4E82-A4F2-484DFF4F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366840"/>
            <a:ext cx="6934320" cy="597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8120" y="2590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ф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1800" y="6008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4840" y="58561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53000" y="4484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5040" y="3951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произносимых соглас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р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м корень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лышим в корне слова сочетание согласных зву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З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о эти слова нужно провер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бираем родственное сло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огласный звук ясно слышал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063080"/>
            <a:ext cx="8001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лексия деятельности - закончи ф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1295280"/>
            <a:ext cx="55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nimashki.net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2160" y="646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12680" y="433548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ый проект: алгоритм + схема. Защит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8153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гл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яет много му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       РА,                  ТР       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       РЯ,               Д       ЛА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14760" y="3537000"/>
                <a:ext cx="5144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2514600"/>
                <a:ext cx="380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о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91320" y="2438280"/>
                <a:ext cx="457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о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4038480"/>
                <a:ext cx="3808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о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715000" y="3962520"/>
                <a:ext cx="380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е</m:t>
                        </m:r>
                      </m:num>
                      <m:den>
                        <m:r>
                          <m:t xml:space="preserve">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и же согласные – самые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ПАС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                   ЗУ                     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Е           КА                   КРУ             КА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752480" y="1752480"/>
                <a:ext cx="533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б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733920" y="1752480"/>
                <a:ext cx="609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б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95880" y="1676520"/>
                <a:ext cx="457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з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09680" y="3352680"/>
                <a:ext cx="685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ж</m:t>
                        </m:r>
                      </m:num>
                      <m:den>
                        <m:r>
                          <m:t xml:space="preserve">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715000" y="3352680"/>
                <a:ext cx="762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ж</m:t>
                        </m:r>
                      </m:num>
                      <m:den>
                        <m:r>
                          <m:t xml:space="preserve">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у нас опасны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трые согласн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апочку надену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видим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ан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е ошибиться – правильно пис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Ё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Й,   ИЗВЕ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Й,  МЕ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89548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 проверить орф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 корне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524240"/>
            <a:ext cx="769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а работы в групп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слушаем друг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делал сам – помоги дру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ботаем тихо - не мешаем друг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бочее место содержим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ударной глас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кор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тавим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ДАР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ыделяем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гласный звук в корне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езуда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его нужно провер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одбираем проверочное слово, в котором звук в корне по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ДАРЕНИЕМ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арных звонких и глух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гласных в корн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ем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корне согласный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звук в слабой пози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о его нужно провер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Подбираем проверочное слово так, чтобы после согласного стоял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гла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,Н,Р,Л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mp</cp:lastModifiedBy>
  <dcterms:modified xsi:type="dcterms:W3CDTF">2011-01-07T12:17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